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540-8570-4A93-AF75-74F7736F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FAD-9CF0-4AAA-A357-2DBD7D5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49B-2412-4460-99E7-554425A5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595-B359-4394-AC37-07C3EB00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7399C-821B-467B-95F6-342125C1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4C33-1D70-4672-817D-74BFCF9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45DF-9E8A-40DD-A2A3-7B31ADFF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A6511-CD74-4E9C-B51F-EBB6B26A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F253-6625-4BDD-91B2-CE81F1F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03B66-1C74-4F2D-9039-60F1BEE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9080E-049C-4A5E-8592-F0C7EF96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EE6-1450-416F-9017-8F52821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2BBE3-F426-4883-A6D9-B4C0CC7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FBEF2-378D-4A27-AA52-5BB6E8C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2EA92-CF4B-420B-B3B2-3C0035C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EFD07-3DF9-4454-BF03-458067A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7326A-6B7A-45BB-96CB-D55F6EFE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191-9870-4789-88EB-A6ECA1E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E78-25E3-402E-8C73-DE32E1EA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BBF-3014-4A88-973F-6596586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0D9-6A2C-43D0-8DDF-3DC47887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BA0-E624-4013-8117-278ED63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C6A-BCB8-4C61-BDBE-02B847E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044-1803-4E2D-9321-7CF1D8D9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FE7-D213-46C9-A761-5DFD0A20C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687C-5DEF-4AA6-9D34-F520B342B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slide1" TargetMode="External"/><Relationship Id="rId4" Type="http://schemas.microsoft.com/office/2007/relationships/media" Target="file:///tmp/home/.config/libreoffice/4/user/gallery/slide1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video" Target="file:///tmp/home/.config/libreoffice/4/user/gallery/slide8" TargetMode="External"/><Relationship Id="rId7" Type="http://schemas.microsoft.com/office/2007/relationships/media" Target="file:///tmp/home/.config/libreoffice/4/user/gallery/slide8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youtube.com/watch?v=okZBiy_IdBA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quizlet.com/2433072/water-cycle-vocabulary-flash-card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jawwa.org/kidsweb/waterfacts/waterfacts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An Introduction to th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Curlz MT"/>
              </a:rPr>
              <a:t>WATER CYC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Mrs. Han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erpetu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 Grade Sci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38680" y="64911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ck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553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9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erpetua"/>
              </a:rPr>
              <a:t>The 3 Phases of the Water Cycl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Precip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3809880"/>
            <a:ext cx="8380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3657600"/>
            <a:ext cx="12952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is when water comes to the Earth from the clo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can come in several different form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R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S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Sl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H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29400" y="1676520"/>
            <a:ext cx="2514600" cy="177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29400" y="3429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629400" y="5086440"/>
            <a:ext cx="2514600" cy="17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6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Evapor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Evapor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takes place when the sun’s heat warms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erpetua"/>
              </a:rPr>
              <a:t>surface water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(puddles, streams, rivers, lakes) enough to turn it from liquid form into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Once the water has turned into gas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erpetua"/>
              </a:rPr>
              <a:t>water vapor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, then it rises up into th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6200"/>
            <a:ext cx="4038480" cy="3030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0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Condens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erpetua"/>
              </a:rPr>
              <a:t>Condensation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takes place after water has evaporated in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Perpetua"/>
              </a:rPr>
              <a:t>atmosphere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Here, the water vapor cools back down and returns to its liquid for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As the water condense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Perpetua"/>
              </a:rPr>
              <a:t>clouds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are formed in the s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When the clouds get full of water, the cycle continues to the Precipitation phase once a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64280" y="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3657600" cy="245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76920" y="3505320"/>
            <a:ext cx="220824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4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3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erpetua"/>
              </a:rPr>
              <a:t>A Song to Help You 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95280" y="6553080"/>
            <a:ext cx="655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youtube.com/watch?v=okZBiy_IdBA&amp;feature=related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9653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Water Cycle Vocabulary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Atmosp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Clou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Ground wa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Run-of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Surface wa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Water cyc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Water vap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56272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All terms, definitions, and pictures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quizlet.com/2433072/water-cycle-vocabulary-flash-cards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3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urlz MT"/>
              </a:rPr>
              <a:t>Fun Facts About WATER…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Dinosaurs swam in and drank the same water we do tod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75% of the Earth is covered with wa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Only 3% of the Earth’s water is drink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For more interesting facts, go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Perpetua"/>
                <a:hlinkClick r:id="rId2"/>
              </a:rPr>
              <a:t>NJAWWA Fun Water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5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07:02Z</dcterms:created>
  <dc:creator>Shaun </dc:creator>
  <dc:description/>
  <dc:language>en-US</dc:language>
  <cp:lastModifiedBy>Shaun </cp:lastModifiedBy>
  <dcterms:modified xsi:type="dcterms:W3CDTF">2010-06-08T20:49:12Z</dcterms:modified>
  <cp:revision>9</cp:revision>
  <dc:subject/>
  <dc:title>An Introduction to the WATER CYCLE</dc:title>
</cp:coreProperties>
</file>